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9F5C-73DD-409F-BA0A-601A9620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A202-331B-4155-8628-C65D26B6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DD9A-F288-4B22-84FB-623F5894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05E5-6286-4006-82E0-645AC42B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8315E-B7BF-4F87-854D-0C6D3199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4000E-7E9D-4C2C-964F-8B0229BC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306AC-1BC3-49C8-9D85-3A621416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BB183-9052-403B-AF5C-F060C197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4A8AF-4B32-488A-8D01-9AEA3BDF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844E5-8D86-485B-9948-480374C3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D1E21-B458-4E7C-A859-A2CD45FD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B452-06DB-42A5-811B-1F511D11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C3B76-4991-4246-A051-585C4DF4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DF14F-6B88-4253-AD5B-1303554E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4C70C-AA8F-4D78-8A20-1A63D40E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54F01-C84D-47FD-BFAC-1D3840E1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5F462-E142-40EB-B102-082FB9F3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6A0-A92C-4ECE-99C0-36907FE9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80E9-95BF-4B53-B79B-7940FC26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79A-611C-48E9-B16D-673A0202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E82D-7F3E-42CC-BDAF-164FFD92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166-A130-4185-BAA2-040DDFF8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0AE0-312A-4B3A-BF05-49C2DBF8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8BB3-D24E-482D-80F4-E09B4266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33CE-7D18-437D-97AC-CCB7047A2B5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Font typeface="Wingdings 2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330099"/>
              </a:buClr>
              <a:buSzPct val="95000"/>
              <a:buFont typeface="Wingdings 2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BD36-5CDD-46ED-B334-3F918A8E9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D7C4-AA66-47E1-9343-504E423C2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BC42-EB32-4694-82D7-F28CCB1E516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99ccff"/>
              </a:buClr>
              <a:buFont typeface="Wingdings 2" charset="2"/>
              <a:buChar char="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330099"/>
              </a:buClr>
              <a:buSzPct val="95000"/>
              <a:buFont typeface="Wingdings 2" charset="2"/>
              <a:buChar char="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95000"/>
              <a:buFont typeface="Wingdings 2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95000"/>
              <a:buFont typeface="Wingdings 2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2397240" y="2109960"/>
          <a:ext cx="2266920" cy="22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240" y="2109960"/>
                    <a:ext cx="2266920" cy="22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17880" y="76320"/>
            <a:ext cx="686736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17880" y="1302840"/>
            <a:ext cx="6867360" cy="43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ool or Class Ori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17880" y="4638600"/>
            <a:ext cx="6867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hool 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17880" y="5425920"/>
            <a:ext cx="686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er’s Name,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2E959781-3B5C-42FF-968F-6C6BF03D7A0C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enda/Topics to be Cover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/Class 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’s W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/Classroom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607B6-A255-482A-8556-DB0799056B3F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hool/Classroom Vi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 vision and charter/mission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pecial curricula or offe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ay take more than one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AE9F9-EDF5-459D-A16A-9C1C9647A01E}" type="datetime1">
              <a:rPr lang="en-US"/>
              <a:t>07/31/26</a:t>
            </a:fld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’s W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key school staff (principal, libraria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rganization chart might be effectiv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3A4D0-4004-4EEF-B933-7105040343CC}" type="datetime1">
              <a:rPr lang="en-US"/>
              <a:t>07/31/26</a:t>
            </a:fld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hool/Classroom Poli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 most important policies and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school hours and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 about expectations of students, teachers,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 school handbook o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ay take more than one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416A4-1DB4-417D-BDFE-95F3D99FF053}" type="datetime1">
              <a:rPr lang="en-US"/>
              <a:t>07/31/26</a:t>
            </a:fld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ding/Confer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 of g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and timing of grades and parent con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ine the grading/homework/conferenc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 and review the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AB42A-A67E-4E16-8C30-278997D9FAB9}" type="datetime1">
              <a:rPr lang="en-US"/>
              <a:t>07/31/26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ther Resour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 Hand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policy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name/phone for each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7EF34-3AD7-4088-9799-D5C43460520E}" type="datetime1">
              <a:rPr lang="en-US"/>
              <a:t>07/31/26</a:t>
            </a:fld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 topics co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iterate wel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F0E59-27E0-4564-AB1F-EBC909774251}" type="datetime1">
              <a:rPr lang="en-US"/>
              <a:t>07/31/26</a:t>
            </a:fld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3:23:26Z</dcterms:created>
  <dc:creator>jeanne butcher</dc:creator>
  <dc:description/>
  <dc:language>en-US</dc:language>
  <cp:lastModifiedBy>jeanne butcher</cp:lastModifiedBy>
  <cp:lastPrinted>1996-03-19T21:02:48Z</cp:lastPrinted>
  <dcterms:modified xsi:type="dcterms:W3CDTF">2007-07-14T03:24:04Z</dcterms:modified>
  <cp:revision>1</cp:revision>
  <dc:subject/>
  <dc:title>Welcome!</dc:title>
</cp:coreProperties>
</file>